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268-5BB7-479E-BFBD-FFFD8CBF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07C-61DC-4CA0-8F4F-372312B9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4B2-D36D-4D78-8A06-28A21BCC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180-8401-41DB-BF22-97D52790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B8EB-00B0-44A1-9259-FCE29407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1CA9-6FDC-4A53-9882-50B895F9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A4B8-807B-4286-9B49-0DF845CE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E7A3-1FA9-47DE-8B53-322CBD3F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4B95-6019-4500-86DF-9410C458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97F6-7F40-4F10-B0A5-D805F0CE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BBEC-838D-4BF4-B227-24DA71E1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2F5-0888-43F2-BA19-CC05655E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AC9F-B66A-4215-BDF2-1050D2BB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6F31-43D2-47CD-AE07-44AEB0B7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3409-452C-4C56-94C2-68F772CE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DA90-39B4-430B-A959-F068B217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0297-A789-4D78-BEFA-BC144DF9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C49-3850-4ECA-BA9A-E8139F5C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685-6C1F-4267-844C-68E48C8D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326E-4D25-47EF-96FD-2DA2E61D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6DC-D225-4FB5-84D5-BAFED929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A20-E12F-4E81-AE97-74CC417F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5405-397B-4331-AC19-CD578252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33C-F03D-46BA-8112-EC773027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B875-8139-43E9-9387-3169B1111D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F5BC-D688-449C-A761-87391733AC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rebuchet MS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rebuchet MS"/>
              </a:rPr>
              <a:t>How to Make a Pie Chart to show Religious and Ethnic Breakdown of a Country</a:t>
            </a:r>
            <a:endParaRPr b="0" lang="en-US" sz="54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Step 9: Select the chart by clicking on it.  Then, go to </a:t>
            </a:r>
            <a:r>
              <a:rPr b="1" i="1" lang="en-US" sz="4000" spc="-1" strike="noStrike">
                <a:solidFill>
                  <a:srgbClr val="ffffcc"/>
                </a:solidFill>
                <a:latin typeface="Trebuchet MS"/>
              </a:rPr>
              <a:t>Edit =&gt; Copy</a:t>
            </a: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Step 10: Open </a:t>
            </a:r>
            <a:r>
              <a:rPr b="1" i="1" lang="en-US" sz="4000" spc="-1" strike="noStrike">
                <a:solidFill>
                  <a:srgbClr val="ffffcc"/>
                </a:solidFill>
                <a:latin typeface="Trebuchet MS"/>
              </a:rPr>
              <a:t>Fireworks</a:t>
            </a: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. Go to </a:t>
            </a:r>
            <a:r>
              <a:rPr b="1" i="1" lang="en-US" sz="4000" spc="-1" strike="noStrike">
                <a:solidFill>
                  <a:srgbClr val="ffffcc"/>
                </a:solidFill>
                <a:latin typeface="Trebuchet MS"/>
              </a:rPr>
              <a:t>File =&gt; New</a:t>
            </a: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. </a:t>
            </a:r>
            <a:endParaRPr b="0" lang="en-US" sz="4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Step 11: Click </a:t>
            </a:r>
            <a:r>
              <a:rPr b="1" i="1" lang="en-US" sz="3600" spc="-1" strike="noStrike">
                <a:solidFill>
                  <a:srgbClr val="ffffff"/>
                </a:solidFill>
                <a:latin typeface="Trebuchet MS"/>
              </a:rPr>
              <a:t>OK</a:t>
            </a: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 when the dialogue box comes up.</a:t>
            </a:r>
            <a:endParaRPr b="0" lang="en-US" sz="36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4363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00600" y="5334120"/>
            <a:ext cx="129528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Step 10: </a:t>
            </a:r>
            <a:r>
              <a:rPr b="1" i="1" lang="en-US" sz="3600" spc="-1" strike="noStrike">
                <a:solidFill>
                  <a:srgbClr val="ffffff"/>
                </a:solidFill>
                <a:latin typeface="Trebuchet MS"/>
              </a:rPr>
              <a:t>Right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click on the blank page and select </a:t>
            </a:r>
            <a:r>
              <a:rPr b="1" i="1" lang="en-US" sz="3600" spc="-1" strike="noStrike">
                <a:solidFill>
                  <a:srgbClr val="ffffff"/>
                </a:solidFill>
                <a:latin typeface="Trebuchet MS"/>
              </a:rPr>
              <a:t>Paste</a:t>
            </a:r>
            <a:r>
              <a:rPr b="0" i="1" lang="en-US" sz="3600" spc="-1" strike="noStrike">
                <a:solidFill>
                  <a:srgbClr val="ffffcc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Step 12: Make sure to name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t something appropriate and save it as a </a:t>
            </a:r>
            <a:r>
              <a:rPr b="1" i="1" lang="en-US" sz="2800" spc="-1" strike="noStrike">
                <a:solidFill>
                  <a:srgbClr val="ffffff"/>
                </a:solidFill>
                <a:latin typeface="Trebuchet MS"/>
              </a:rPr>
              <a:t>JPEG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4943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09680" y="510552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54100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Step 13: Insert the JPEG into your wikispace.</a:t>
            </a:r>
            <a:endParaRPr b="0" lang="en-US" sz="4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 use this same process for doing the Pie Chart for ethnicities. 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change is when you are setting up excel.  Your two headings will be </a:t>
            </a:r>
            <a:r>
              <a:rPr b="1" i="1" lang="en-US" sz="2800" spc="-1" strike="noStrike">
                <a:solidFill>
                  <a:srgbClr val="ffffff"/>
                </a:solidFill>
                <a:latin typeface="Trebuchet MS"/>
              </a:rPr>
              <a:t>Ethnicity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and </a:t>
            </a:r>
            <a:r>
              <a:rPr b="1" i="1" lang="en-US" sz="2800" spc="-1" strike="noStrike">
                <a:solidFill>
                  <a:srgbClr val="ffffff"/>
                </a:solidFill>
                <a:latin typeface="Trebuchet MS"/>
              </a:rPr>
              <a:t>Percent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 will put the names of the different ethnicities in your country and the percent practicing. 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en it comes time to title your pie chart, title it </a:t>
            </a:r>
            <a:r>
              <a:rPr b="1" i="1" lang="en-US" sz="2800" spc="-1" strike="noStrike">
                <a:solidFill>
                  <a:srgbClr val="ffffff"/>
                </a:solidFill>
                <a:latin typeface="Trebuchet MS"/>
              </a:rPr>
              <a:t>Ethnic Breakdown of (Your country)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Step 1: Open Excel. In </a:t>
            </a:r>
            <a:r>
              <a:rPr b="1" i="1" lang="en-US" sz="3200" spc="-1" strike="noStrike">
                <a:solidFill>
                  <a:srgbClr val="ffffcc"/>
                </a:solidFill>
                <a:latin typeface="Trebuchet MS"/>
              </a:rPr>
              <a:t>A1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 type in </a:t>
            </a:r>
            <a:r>
              <a:rPr b="1" i="1" lang="en-US" sz="3200" spc="-1" strike="noStrike">
                <a:solidFill>
                  <a:srgbClr val="ffffcc"/>
                </a:solidFill>
                <a:latin typeface="Trebuchet MS"/>
              </a:rPr>
              <a:t>Religion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. In </a:t>
            </a:r>
            <a:r>
              <a:rPr b="1" i="1" lang="en-US" sz="3200" spc="-1" strike="noStrike">
                <a:solidFill>
                  <a:srgbClr val="ffffcc"/>
                </a:solidFill>
                <a:latin typeface="Trebuchet MS"/>
              </a:rPr>
              <a:t>B1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 type in </a:t>
            </a:r>
            <a:r>
              <a:rPr b="1" i="1" lang="en-US" sz="3200" spc="-1" strike="noStrike">
                <a:solidFill>
                  <a:srgbClr val="ffffcc"/>
                </a:solidFill>
                <a:latin typeface="Trebuchet MS"/>
              </a:rPr>
              <a:t>Percent Practicing.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1486080"/>
            <a:ext cx="71629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Step 2: In the column labeled </a:t>
            </a:r>
            <a:r>
              <a:rPr b="1" i="1" lang="en-US" sz="2800" spc="-1" strike="noStrike">
                <a:solidFill>
                  <a:srgbClr val="ffffcc"/>
                </a:solidFill>
                <a:latin typeface="Trebuchet MS"/>
              </a:rPr>
              <a:t>Religion</a:t>
            </a: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. List all of the religions that are practiced in your country </a:t>
            </a:r>
            <a:r>
              <a:rPr b="1" i="1" lang="en-US" sz="2400" spc="-1" strike="noStrike">
                <a:solidFill>
                  <a:srgbClr val="ffffcc"/>
                </a:solidFill>
                <a:latin typeface="Trebuchet MS"/>
              </a:rPr>
              <a:t>(if any are under 5% add them together and label them other)</a:t>
            </a:r>
            <a:endParaRPr b="0" lang="en-US" sz="24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19320" y="165744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Step 3: In the column labeled </a:t>
            </a:r>
            <a:r>
              <a:rPr b="1" i="1" lang="en-US" sz="2800" spc="-1" strike="noStrike">
                <a:solidFill>
                  <a:srgbClr val="ffffcc"/>
                </a:solidFill>
                <a:latin typeface="Trebuchet MS"/>
              </a:rPr>
              <a:t>Percent Practicing</a:t>
            </a: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 type in the percentage (</a:t>
            </a:r>
            <a:r>
              <a:rPr b="0" i="1" lang="en-US" sz="2800" spc="-1" strike="noStrike">
                <a:solidFill>
                  <a:srgbClr val="ffffcc"/>
                </a:solidFill>
                <a:latin typeface="Trebuchet MS"/>
              </a:rPr>
              <a:t>no percent sign, only the number</a:t>
            </a: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) that practice that religion.  Remember, you need to add up all religions that are under 5% and put them in the </a:t>
            </a:r>
            <a:r>
              <a:rPr b="1" i="1" lang="en-US" sz="2800" spc="-1" strike="noStrike">
                <a:solidFill>
                  <a:srgbClr val="ffffcc"/>
                </a:solidFill>
                <a:latin typeface="Trebuchet MS"/>
              </a:rPr>
              <a:t>Other</a:t>
            </a: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 category.</a:t>
            </a:r>
            <a:endParaRPr b="0" lang="en-US" sz="2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Step 4: Highlight all cells that contain information (</a:t>
            </a:r>
            <a:r>
              <a:rPr b="1" i="1" lang="en-US" sz="2800" spc="-1" strike="noStrike">
                <a:solidFill>
                  <a:srgbClr val="ffffcc"/>
                </a:solidFill>
                <a:latin typeface="Trebuchet MS"/>
              </a:rPr>
              <a:t>DO NOT HIGHLIGHT EMPTY CELLS</a:t>
            </a: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) and click on the </a:t>
            </a:r>
            <a:r>
              <a:rPr b="1" i="1" lang="en-US" sz="2800" spc="-1" strike="noStrike">
                <a:solidFill>
                  <a:srgbClr val="ffffcc"/>
                </a:solidFill>
                <a:latin typeface="Trebuchet MS"/>
              </a:rPr>
              <a:t>chart wizard</a:t>
            </a: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 button.</a:t>
            </a:r>
            <a:endParaRPr b="0" lang="en-US" sz="2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19320" y="1486080"/>
            <a:ext cx="7162560" cy="5371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38480" y="1828800"/>
            <a:ext cx="3049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Step 5: Choose </a:t>
            </a:r>
            <a:r>
              <a:rPr b="1" i="1" lang="en-US" sz="3600" spc="-1" strike="noStrike">
                <a:solidFill>
                  <a:srgbClr val="ffffcc"/>
                </a:solidFill>
                <a:latin typeface="Trebuchet MS"/>
              </a:rPr>
              <a:t>Pie Chart </a:t>
            </a: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from the list.  You can then choose either of the six types of pie charts available.</a:t>
            </a:r>
            <a:endParaRPr b="0" lang="en-US" sz="36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H="1">
            <a:off x="6324120" y="3809880"/>
            <a:ext cx="121932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562720" y="3124080"/>
            <a:ext cx="220968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800240" y="3124080"/>
            <a:ext cx="289548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400800" y="3124080"/>
            <a:ext cx="137160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486040" y="380988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800600" y="3809880"/>
            <a:ext cx="2819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28954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You can choose any of these forms.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Step 6: When you have chosen which chart, click next twice. At this dialogue box you change the title of your pie chart.  Name it “</a:t>
            </a:r>
            <a:r>
              <a:rPr b="0" i="1" lang="en-US" sz="2800" spc="-1" strike="noStrike">
                <a:solidFill>
                  <a:srgbClr val="ffffcc"/>
                </a:solidFill>
                <a:latin typeface="Trebuchet MS"/>
              </a:rPr>
              <a:t>Religion Breakdown of (Name of your country)”</a:t>
            </a:r>
            <a:endParaRPr b="0" lang="en-US" sz="2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705720" cy="4735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76520" y="2666880"/>
            <a:ext cx="2438280" cy="6858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Step 7: Click on the </a:t>
            </a:r>
            <a:r>
              <a:rPr b="1" i="1" lang="en-US" sz="3200" spc="-1" strike="noStrike">
                <a:solidFill>
                  <a:srgbClr val="ffffcc"/>
                </a:solidFill>
                <a:latin typeface="Trebuchet MS"/>
              </a:rPr>
              <a:t>Data Labels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 tab.  Select </a:t>
            </a:r>
            <a:r>
              <a:rPr b="1" i="1" lang="en-US" sz="3200" spc="-1" strike="noStrike">
                <a:solidFill>
                  <a:srgbClr val="ffffcc"/>
                </a:solidFill>
                <a:latin typeface="Trebuchet MS"/>
              </a:rPr>
              <a:t>Category Name 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and </a:t>
            </a:r>
            <a:r>
              <a:rPr b="1" i="1" lang="en-US" sz="3200" spc="-1" strike="noStrike">
                <a:solidFill>
                  <a:srgbClr val="ffffcc"/>
                </a:solidFill>
                <a:latin typeface="Trebuchet MS"/>
              </a:rPr>
              <a:t>Percentage</a:t>
            </a:r>
            <a:r>
              <a:rPr b="1" lang="en-US" sz="3200" spc="-1" strike="noStrike">
                <a:solidFill>
                  <a:srgbClr val="ffffcc"/>
                </a:solidFill>
                <a:latin typeface="Trebuchet MS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 Then click </a:t>
            </a:r>
            <a:r>
              <a:rPr b="1" i="1" lang="en-US" sz="3200" spc="-1" strike="noStrike">
                <a:solidFill>
                  <a:srgbClr val="ffffcc"/>
                </a:solidFill>
                <a:latin typeface="Trebuchet MS"/>
              </a:rPr>
              <a:t>Next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78168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Step 8: Choose </a:t>
            </a:r>
            <a:r>
              <a:rPr b="1" i="1" lang="en-US" sz="4000" spc="-1" strike="noStrike">
                <a:solidFill>
                  <a:srgbClr val="ffffcc"/>
                </a:solidFill>
                <a:latin typeface="Trebuchet MS"/>
              </a:rPr>
              <a:t>As new sheet</a:t>
            </a: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. Then click </a:t>
            </a:r>
            <a:r>
              <a:rPr b="1" i="1" lang="en-US" sz="4000" spc="-1" strike="noStrike">
                <a:solidFill>
                  <a:srgbClr val="ffffcc"/>
                </a:solidFill>
                <a:latin typeface="Trebuchet MS"/>
              </a:rPr>
              <a:t>Finish</a:t>
            </a: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31520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5:23:03Z</dcterms:created>
  <dc:creator>Irving ISD</dc:creator>
  <dc:description/>
  <dc:language>en-US</dc:language>
  <cp:lastModifiedBy>Irving ISD</cp:lastModifiedBy>
  <dcterms:modified xsi:type="dcterms:W3CDTF">2008-02-29T18:39:39Z</dcterms:modified>
  <cp:revision>5</cp:revision>
  <dc:subject/>
  <dc:title>How to Make a Pie Chart to Religion Breakdown of a Country</dc:title>
</cp:coreProperties>
</file>